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15.png" ContentType="image/png"/>
  <Override PartName="/ppt/media/image31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9.wmf" ContentType="image/x-wmf"/>
  <Override PartName="/ppt/media/image38.wmf" ContentType="image/x-wmf"/>
  <Override PartName="/ppt/media/image40.png" ContentType="image/pn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wmf" ContentType="image/x-wmf"/>
  <Override PartName="/ppt/media/image3.gif" ContentType="image/gif"/>
  <Override PartName="/ppt/media/image14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310-949E-4566-887A-359EA4BC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DCE-0498-4338-8925-0125B6E8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011-8D3C-4805-8246-2CE846D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C3B-17A1-4892-A639-2FE127E7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F53-2648-442E-93E8-9A728C5F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F5C-59C1-4E7D-A4AC-18DCADA0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53A-AE71-4549-8109-760F0E07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CFF-4466-4D0D-A303-F99CE96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13B-0B0B-46DB-9FD7-47414FD0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5B5-911D-481E-8885-798C16F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CBA-78E0-470F-97EA-DD3243F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AB6-3542-4D7E-8EAF-2789BF7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pHop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Jest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Jeste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Jest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FF8-4C6A-4BFC-8749-B656CD813E52}" type="slidenum">
              <a:rPr b="0" lang="en-US" sz="1200" spc="-1" strike="noStrike">
                <a:solidFill>
                  <a:srgbClr val="898989"/>
                </a:solidFill>
                <a:latin typeface="Jest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pHop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t._Washington_from_Bretton_Wood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mountwashington.org/weather/cam/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Videos/Vermont%20Syrup.wmv" TargetMode="Externa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Videos/Paul%20Revere.asf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limoth.org/features/mayflower-2/journey/journey.php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Videos/Visit%20a%20Cranberry%20Farm.wmv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Videos/West%20Quoddy%20Lighthouse%20Sunrise.avi" TargetMode="External"/><Relationship Id="rId2" Type="http://schemas.openxmlformats.org/officeDocument/2006/relationships/hyperlink" Target="file:///Videos/West%20Quoddy%20Lighthouse%20Sunrise.avi" TargetMode="External"/><Relationship Id="rId3" Type="http://schemas.openxmlformats.org/officeDocument/2006/relationships/hyperlink" Target="file:///Videos/West%20Quoddy%20Lighthouse%20Sunrise.avi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ideos/West%20Quoddy%20Lighthouse.avi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igans Island"/>
              </a:rPr>
              <a:t>Welcome to th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igans Island"/>
              </a:rPr>
              <a:t>Northeast Region!</a:t>
            </a:r>
            <a:endParaRPr b="0" lang="en-US" sz="8000" spc="-1" strike="noStrike">
              <a:solidFill>
                <a:srgbClr val="000000"/>
              </a:solidFill>
              <a:latin typeface="HipHopDemi"/>
            </a:endParaRPr>
          </a:p>
        </p:txBody>
      </p:sp>
      <p:pic>
        <p:nvPicPr>
          <p:cNvPr id="80" name="Picture 2" descr="http://www.bio-link.org/images/NEregionmap.gif"/>
          <p:cNvPicPr/>
          <p:nvPr/>
        </p:nvPicPr>
        <p:blipFill>
          <a:blip r:embed="rId1"/>
          <a:stretch/>
        </p:blipFill>
        <p:spPr>
          <a:xfrm>
            <a:off x="2895480" y="3200400"/>
            <a:ext cx="378144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MCMP00094_0000[1]"/>
          <p:cNvPicPr/>
          <p:nvPr/>
        </p:nvPicPr>
        <p:blipFill>
          <a:blip r:embed="rId1"/>
          <a:stretch/>
        </p:blipFill>
        <p:spPr>
          <a:xfrm>
            <a:off x="3200400" y="2666880"/>
            <a:ext cx="1830240" cy="379728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85680" y="1200240"/>
            <a:ext cx="9045720" cy="1725480"/>
          </a:xfrm>
          <a:prstGeom prst="rect">
            <a:avLst/>
          </a:prstGeom>
          <a:ln w="0">
            <a:noFill/>
          </a:ln>
        </p:spPr>
      </p:pic>
      <p:sp>
        <p:nvSpPr>
          <p:cNvPr id="111" name="5-Point Star 9"/>
          <p:cNvSpPr/>
          <p:nvPr/>
        </p:nvSpPr>
        <p:spPr>
          <a:xfrm>
            <a:off x="4343400" y="52578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13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55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9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Mountains of the Northeas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oldest chain of mountains in North America is the Appalachian Mountain Range.  It is made up of several smaller rang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White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Green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Catskill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White Mountain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ound in New Hampshire and part of Maine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now covered peaks may have given them their name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everal Ski Resorts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18" name="Picture 2" descr="http://www.visitwhitemountains.com/library/images/photo-gallery/scenics/6.jpg"/>
          <p:cNvPicPr/>
          <p:nvPr/>
        </p:nvPicPr>
        <p:blipFill>
          <a:blip r:embed="rId1"/>
          <a:stretch/>
        </p:blipFill>
        <p:spPr>
          <a:xfrm>
            <a:off x="4495680" y="3048120"/>
            <a:ext cx="436896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ount Washingto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highest peak in the Northeast United States, standing at 6, 288 feet tall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t lies within the White Mountain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21" name="Picture 2" descr="http://upload.wikimedia.org/wikipedia/commons/thumb/d/d7/Mt._Washington_from_Bretton_Woods.JPG/280px-Mt._Washington_from_Bretton_Woo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7800" y="3276720"/>
            <a:ext cx="5271840" cy="3276360"/>
          </a:xfrm>
          <a:prstGeom prst="rect">
            <a:avLst/>
          </a:prstGeom>
          <a:ln w="0">
            <a:noFill/>
          </a:ln>
        </p:spPr>
      </p:pic>
      <p:sp>
        <p:nvSpPr>
          <p:cNvPr id="122" name="Action Button: Return 4"/>
          <p:cNvSpPr/>
          <p:nvPr/>
        </p:nvSpPr>
        <p:spPr>
          <a:xfrm>
            <a:off x="5335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28600" y="3581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lick here to see the current weather conditions at Mt.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mineral is a material that was never alive and is found in the Earth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ew Hampshire, known as the Granite State, has many </a:t>
            </a: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quarries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quarry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is a place where stone is dug, cut, or blasted out to be used in building construction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Vermont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30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31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4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77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4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CMP00070_0000[1]"/>
          <p:cNvPicPr/>
          <p:nvPr/>
        </p:nvPicPr>
        <p:blipFill>
          <a:blip r:embed="rId1"/>
          <a:stretch/>
        </p:blipFill>
        <p:spPr>
          <a:xfrm>
            <a:off x="3276720" y="2741760"/>
            <a:ext cx="1981080" cy="39146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34" name="5-Point Star 9"/>
          <p:cNvSpPr/>
          <p:nvPr/>
        </p:nvSpPr>
        <p:spPr>
          <a:xfrm>
            <a:off x="4267080" y="37339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36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8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894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Green Mountain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amed for the forest of evergreens that covered the mountains when the first European settlers arriv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cated in Vermon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39" name="Action Button: Return 3"/>
          <p:cNvSpPr/>
          <p:nvPr/>
        </p:nvSpPr>
        <p:spPr>
          <a:xfrm>
            <a:off x="3808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free-slideshow.com/stock-photos/green_mountains/green-mountain-valley.jpg"/>
          <p:cNvPicPr/>
          <p:nvPr/>
        </p:nvPicPr>
        <p:blipFill>
          <a:blip r:embed="rId1"/>
          <a:stretch/>
        </p:blipFill>
        <p:spPr>
          <a:xfrm>
            <a:off x="4648320" y="3352680"/>
            <a:ext cx="381924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vermontmaple.org/images/large-images/tree-tapping-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aple Syrup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ple syrup is made from the sap of sugar maple tre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ap is the liquid that circulates through a plant carrying water and foo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ince a great many sugar maple trees grow in Vermont, more maple syrup is produced there than any other state in the U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563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lick here for a 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Massachusetts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49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4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07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4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33412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Lubec, Maine to visit the easternmost point of the U.S.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85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4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2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MCMP00109_0000[1]"/>
          <p:cNvPicPr/>
          <p:nvPr/>
        </p:nvPicPr>
        <p:blipFill>
          <a:blip r:embed="rId1"/>
          <a:stretch/>
        </p:blipFill>
        <p:spPr>
          <a:xfrm>
            <a:off x="2895480" y="3124080"/>
            <a:ext cx="41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3" descr=""/>
          <p:cNvPicPr/>
          <p:nvPr/>
        </p:nvPicPr>
        <p:blipFill>
          <a:blip r:embed="rId2"/>
          <a:stretch/>
        </p:blipFill>
        <p:spPr>
          <a:xfrm>
            <a:off x="249120" y="1200240"/>
            <a:ext cx="8723520" cy="1725480"/>
          </a:xfrm>
          <a:prstGeom prst="rect">
            <a:avLst/>
          </a:prstGeom>
          <a:ln w="0">
            <a:noFill/>
          </a:ln>
        </p:spPr>
      </p:pic>
      <p:sp>
        <p:nvSpPr>
          <p:cNvPr id="153" name="5-Point Star 9"/>
          <p:cNvSpPr/>
          <p:nvPr/>
        </p:nvSpPr>
        <p:spPr>
          <a:xfrm>
            <a:off x="5181480" y="38862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55" name="Train 02.wav" descr=""/>
          <p:cNvPicPr/>
          <p:nvPr/>
        </p:nvPicPr>
        <p:blipFill>
          <a:blip r:embed="rId4"/>
          <a:stretch/>
        </p:blipFill>
        <p:spPr>
          <a:xfrm>
            <a:off x="6172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15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89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first shots of the American Revolution were fired in a town near Boston called Lexington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revolution is a fight to overthrow the government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One of three largest cities in the Northeast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ecaptain.com/files/images/Bosto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 Harbor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 Commo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starting point of the Freedom Trail, Boston Common is the oldest park in the country. The park is almost 50 acres in siz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Celebrities, including Martin Luther King Jr., Pope John Paul II, and Gloria Steinem (advocate of the feminist revolution), have given speeches at the Common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62" name="Picture 2" descr="Boston Common"/>
          <p:cNvPicPr/>
          <p:nvPr/>
        </p:nvPicPr>
        <p:blipFill>
          <a:blip r:embed="rId1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Freedom Trail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9907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Begins near the Public Gardens and ends nearby the city of Charlestown.  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It passes Paul Revere’s house and a number of other important historic places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65" name="Picture 5" descr="The Freedom Trail"/>
          <p:cNvPicPr/>
          <p:nvPr/>
        </p:nvPicPr>
        <p:blipFill>
          <a:blip r:embed="rId2"/>
          <a:stretch/>
        </p:blipFill>
        <p:spPr>
          <a:xfrm>
            <a:off x="0" y="4811760"/>
            <a:ext cx="9144000" cy="204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aul Revere House"/>
          <p:cNvPicPr/>
          <p:nvPr/>
        </p:nvPicPr>
        <p:blipFill>
          <a:blip r:embed="rId3"/>
          <a:stretch/>
        </p:blipFill>
        <p:spPr>
          <a:xfrm>
            <a:off x="5334120" y="1143000"/>
            <a:ext cx="3292200" cy="27432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5334120" y="3962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Revere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e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Cape Cod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Cape Cod is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Jester"/>
              </a:rPr>
              <a:t>peninsula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Jester"/>
              </a:rPr>
              <a:t>A peninsula is a piece of land almost surrounded by water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Cape is home to tourists during the warm summer month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ts location and climate have made it one of the most well-known fishing areas in the worl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Plymouth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Northeast played an important role in the beginning of the United Stat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One of the first Englis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Jester"/>
              </a:rPr>
              <a:t>colonies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in North America began at Plymouth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A colony is a settlement of people who come from one country to live in another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By the early 1700’s, there were 13 coloni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72" name="Rectangle 3" descr=""/>
          <p:cNvPicPr/>
          <p:nvPr/>
        </p:nvPicPr>
        <p:blipFill>
          <a:blip r:embed="rId1"/>
          <a:stretch/>
        </p:blipFill>
        <p:spPr>
          <a:xfrm>
            <a:off x="3578400" y="1011240"/>
            <a:ext cx="184140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Mayflower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280" y="1294920"/>
            <a:ext cx="4572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Mayflower II Journey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our the Mayflower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Mayflower Compact was an agreement that said the pilgrims would set up a government and make laws for the good of everyon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75" name="Picture 5" descr="Mayflower II Photo"/>
          <p:cNvPicPr/>
          <p:nvPr/>
        </p:nvPicPr>
        <p:blipFill>
          <a:blip r:embed="rId2"/>
          <a:stretch/>
        </p:blipFill>
        <p:spPr>
          <a:xfrm>
            <a:off x="4648320" y="1828800"/>
            <a:ext cx="4259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ranberries at Edaville USA"/>
          <p:cNvPicPr/>
          <p:nvPr/>
        </p:nvPicPr>
        <p:blipFill>
          <a:blip r:embed="rId1"/>
          <a:stretch/>
        </p:blipFill>
        <p:spPr>
          <a:xfrm>
            <a:off x="4495680" y="1752480"/>
            <a:ext cx="4289400" cy="3733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Cranberrie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0666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One product grown in the N.E. is the cranberry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Of the 1,000 cranberry farms in the US, 500 of them are in Massachusetts---That’s half of all the farms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Most cranberries are grown in bog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Bog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bog is an area of soft, wet, spongy grou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o prepare a cranberry bog, swampy land must be leveled and clear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Next, it is covered with sand to allow for drainage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Finally, small, new cranberry plants are pressed into the sand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CMP00089_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25336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88" name="5-Point Star 9"/>
          <p:cNvSpPr/>
          <p:nvPr/>
        </p:nvSpPr>
        <p:spPr>
          <a:xfrm>
            <a:off x="4343400" y="5105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90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2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89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As the plants grow, they cover the bottom of the bog.  In the winter, bogs are filled with water that freezes to protect the plants.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In the spring, the bogs are drained and filled again to keep bugs off of the berries.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Since cranberries have small air pockets inside, they rise to the top when they are ready to be harvested. 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Farmers rake the bogs, which knocks the berries from their vines so they can be collect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Click here to visit a cranberry bog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83" name="Picture 2" descr="http://www.jaunted.com/files/3/cranberry_bog_hollywood.jpg"/>
          <p:cNvPicPr/>
          <p:nvPr/>
        </p:nvPicPr>
        <p:blipFill>
          <a:blip r:embed="rId2"/>
          <a:stretch/>
        </p:blipFill>
        <p:spPr>
          <a:xfrm>
            <a:off x="2057400" y="2743200"/>
            <a:ext cx="510552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http://www.dollartravels.com/images/cityguide/united-states/massachusetts/boston.jpg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assachusetts Bay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ear Boston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other cities and towns around Massachusetts Bay serve as tourist, fishing, and boating cente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John Adam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37124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rom Massachusetts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Provided strong leadership in the writing of the Declaration of Independenc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ater on, he wa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Jester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President of the United Stat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89" name="Picture 7" descr="http://newsrealblog.files.wordpress.com/2009/09/johnadams.jpg"/>
          <p:cNvPicPr/>
          <p:nvPr/>
        </p:nvPicPr>
        <p:blipFill>
          <a:blip r:embed="rId2"/>
          <a:stretch/>
        </p:blipFill>
        <p:spPr>
          <a:xfrm>
            <a:off x="5486400" y="1523880"/>
            <a:ext cx="32004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Rhode Island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94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95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4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38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4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MCMP00099_0000[1]"/>
          <p:cNvPicPr/>
          <p:nvPr/>
        </p:nvPicPr>
        <p:blipFill>
          <a:blip r:embed="rId1"/>
          <a:stretch/>
        </p:blipFill>
        <p:spPr>
          <a:xfrm>
            <a:off x="3352680" y="2590920"/>
            <a:ext cx="2900520" cy="401472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8" name="5-Point Star 9"/>
          <p:cNvSpPr/>
          <p:nvPr/>
        </p:nvSpPr>
        <p:spPr>
          <a:xfrm>
            <a:off x="4800600" y="3581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46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6894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http://4.bp.blogspot.com/_vfNSEFI8sPE/SoAeMN9Jp7I/AAAAAAAABUY/rkzWZg_e_Go/s400/101_1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g. 12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575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Narragansett People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or hundreds of years, the Narragansett Indians lived in what is now Rhode Is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y hunted, fished, and grew corn (and other vegetables) for foo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ived in a world based on cooperation- working together to get things don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f a family needed help planting corn, all of their neighbors and friends would help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ost families shared a hom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ir home was called a wigwam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wigwam is a cozy hut made of wooden poles covered with bark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06" name="Picture 4" descr="wetu.jpg image by maggie6138"/>
          <p:cNvPicPr/>
          <p:nvPr/>
        </p:nvPicPr>
        <p:blipFill>
          <a:blip r:embed="rId1"/>
          <a:stretch/>
        </p:blipFill>
        <p:spPr>
          <a:xfrm>
            <a:off x="1523880" y="2971800"/>
            <a:ext cx="61200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114440" y="30492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ir lands were divided up into a number of territori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Each territory, or piece of land, had its own chief, or sachem. </a:t>
            </a:r>
            <a:r>
              <a:rPr b="1" i="1" lang="en-US" sz="3200" spc="-1" strike="noStrike">
                <a:solidFill>
                  <a:srgbClr val="000000"/>
                </a:solidFill>
                <a:latin typeface="Jester"/>
              </a:rPr>
              <a:t>Sachem 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eans “ruler.”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first Europeans to set foot on their lands were Dutch, French, and English fishermen and fur trade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08" name="Picture 4" descr="http://4.bp.blogspot.com/_RPnZKWxidg8/Svdi-EfWT0I/AAAAAAAABQ0/lQoVUIn8r6o/s320/Narragansett+Indian+Tribe037.JPG"/>
          <p:cNvPicPr/>
          <p:nvPr/>
        </p:nvPicPr>
        <p:blipFill>
          <a:blip r:embed="rId1"/>
          <a:stretch/>
        </p:blipFill>
        <p:spPr>
          <a:xfrm>
            <a:off x="304920" y="7621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3" descr=""/>
          <p:cNvPicPr/>
          <p:nvPr/>
        </p:nvPicPr>
        <p:blipFill>
          <a:blip r:embed="rId2"/>
          <a:stretch/>
        </p:blipFill>
        <p:spPr>
          <a:xfrm>
            <a:off x="298440" y="5632560"/>
            <a:ext cx="37130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lighthouse.cc/westquoddy/WQF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45720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igans Island"/>
              </a:rPr>
              <a:t>Welcome to West Quoddy Head Lighthouse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560" y="837720"/>
            <a:ext cx="51051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traders bought goods such as iron axes and brass kettles to exchange with the natives for their fu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ince the Narragansett had used tools made of stone and shell, they were happy to use the stronger tool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11" name="Picture 4" descr="http://t3.gstatic.com/images?q=tbn:xknj2lqamsbkzM:http://www.texasbeyondhistory.net/tejas/ancestors/images/nicholas-axes-lg.jpg"/>
          <p:cNvPicPr/>
          <p:nvPr/>
        </p:nvPicPr>
        <p:blipFill>
          <a:blip r:embed="rId1"/>
          <a:stretch/>
        </p:blipFill>
        <p:spPr>
          <a:xfrm>
            <a:off x="5562720" y="1219320"/>
            <a:ext cx="3267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Roger Williams, an English settler, visited the Grand Sachem (</a:t>
            </a:r>
            <a:r>
              <a:rPr b="1" i="1" lang="en-US" sz="3200" spc="-1" strike="noStrike">
                <a:solidFill>
                  <a:srgbClr val="000000"/>
                </a:solidFill>
                <a:latin typeface="Jester"/>
              </a:rPr>
              <a:t>chief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), Canonicus.  He bought the land that is now called Rhode Is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Williams was friendly to the natives, learned their language, and earned their trust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He also helped to keep peace between the Native Americans and new colonist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Because Europeans took part of the Narragansett’s land, fights occurr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n 1675, Native Americans from Massachusetts attacked the colonists.  Since the Narragansetts were angry about their land being taken, they sided with the other nativ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were killed in battles that follow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natives eventually joined other Native American groups or moved to Canada, while some stayed on their 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n 1978, Rhode Island returned about 1,800 acres of land to the Narragansett reservation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reservation is an area of land set aside for Native American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Every August, they hold their Annual Meeting Powwow and Green Corn Festival on their reservation in Charlestown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powwow is a time for dancing, singing, and renewing old friendship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y also hold elections and handle disputes or argument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Connecticut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21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222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40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67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400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MCMP00105_0000[1]"/>
          <p:cNvPicPr/>
          <p:nvPr/>
        </p:nvPicPr>
        <p:blipFill>
          <a:blip r:embed="rId1"/>
          <a:stretch/>
        </p:blipFill>
        <p:spPr>
          <a:xfrm>
            <a:off x="3124080" y="2895480"/>
            <a:ext cx="3337200" cy="35164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225" name="5-Point Star 9"/>
          <p:cNvSpPr/>
          <p:nvPr/>
        </p:nvSpPr>
        <p:spPr>
          <a:xfrm>
            <a:off x="4495680" y="38862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227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75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689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necticut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1526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Whew! What a trip!</a:t>
            </a:r>
            <a:endParaRPr b="0" lang="en-US" sz="5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Luckily, we arrived in time to see the sun rise at the </a:t>
            </a:r>
            <a:endParaRPr b="0" lang="en-US" sz="54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1"/>
              </a:rPr>
              <a:t>West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2"/>
              </a:rPr>
              <a:t>Quoddy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3"/>
              </a:rPr>
              <a:t> Head Lighthouse</a:t>
            </a: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Look at the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HipHopDemi"/>
                <a:hlinkClick r:id="rId1"/>
              </a:rPr>
              <a:t>light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HipHopDemi"/>
              </a:rPr>
              <a:t> on top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Jester"/>
              </a:rPr>
              <a:t>Lighthouses</a:t>
            </a: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 use lights to signal the ships in the water.  Each lighthouse has a particular signal so that the sailors would know where they were!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Fog Hor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fog horn is blasted to warn sailors of the fog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West Quoddy Head lighthouse blasts its fog horn twice every 30 second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99" name="Picture 5" descr="http://lighthouse.cc/westquoddy/foghornsIMG_2430.jpg"/>
          <p:cNvPicPr/>
          <p:nvPr/>
        </p:nvPicPr>
        <p:blipFill>
          <a:blip r:embed="rId1"/>
          <a:stretch/>
        </p:blipFill>
        <p:spPr>
          <a:xfrm>
            <a:off x="5562720" y="1523880"/>
            <a:ext cx="310500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MS900069736[1].wav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67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needled.files.wordpress.com/2010/06/lobster1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Lobster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ore than 50 million pounds of lobster every year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bster used to be fed to prisoners because it wasn’t considered a delicacy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bsterman (people who fish for lobster) average about one lobster per trap-since there is a size requirmen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412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New Hampshire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08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4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49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22:23:55Z</dcterms:created>
  <dc:creator>Stephanie</dc:creator>
  <dc:description/>
  <dc:language>en-US</dc:language>
  <cp:lastModifiedBy>Stephanie Mellen</cp:lastModifiedBy>
  <dcterms:modified xsi:type="dcterms:W3CDTF">2010-10-22T13:23:20Z</dcterms:modified>
  <cp:revision>154</cp:revision>
  <dc:subject/>
  <dc:title>Welcome to the  Northeast Region!</dc:title>
</cp:coreProperties>
</file>